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33.xml" ContentType="application/vnd.openxmlformats-officedocument.theme+xml"/>
  <Override PartName="/ppt/theme/theme45.xml" ContentType="application/vnd.openxmlformats-officedocument.theme+xml"/>
  <Override PartName="/ppt/theme/theme10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</p:sldMasterIdLst>
  <p:sldIdLst>
    <p:sldId id="256" r:id="rId47"/>
    <p:sldId id="257" r:id="rId48"/>
    <p:sldId id="258" r:id="rId49"/>
    <p:sldId id="259" r:id="rId50"/>
    <p:sldId id="260" r:id="rId51"/>
    <p:sldId id="26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" Target="slides/slide1.xml"/><Relationship Id="rId48" Type="http://schemas.openxmlformats.org/officeDocument/2006/relationships/slide" Target="slides/slide2.xml"/><Relationship Id="rId49" Type="http://schemas.openxmlformats.org/officeDocument/2006/relationships/slide" Target="slides/slide3.xml"/><Relationship Id="rId50" Type="http://schemas.openxmlformats.org/officeDocument/2006/relationships/slide" Target="slides/slide4.xml"/><Relationship Id="rId51" Type="http://schemas.openxmlformats.org/officeDocument/2006/relationships/slide" Target="slides/slide5.xml"/><Relationship Id="rId52" Type="http://schemas.openxmlformats.org/officeDocument/2006/relationships/slide" Target="slides/slide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99D-0B19-48CB-9686-73079A60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A7B-7051-4B79-A42B-3E24FFC2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5987E-1F4A-4932-856C-D988698E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4404B-AFE3-4D91-9C10-FFD9B566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03A5B-9C8F-4254-A8CD-CE10D3AB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B71CE-B5BA-49E3-9B81-7C25214B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2AFB4-C437-41B3-BEC0-8086C912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A0E71-79EF-4E53-ABA6-55AF66B4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2102D-F987-4840-9369-F55FC2D6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85CA7-C2B1-4FDA-A130-8EB0E660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0A8FC-87CC-4307-BC38-97EFB4EF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C8F46-D5D8-4413-9C16-ACE3BF3D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6A7-2EB4-49D7-AB05-9CADD6C4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A7B8E-1750-4697-A39E-FD082C53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BFBCB-31C3-42AC-AFFD-60AAF9B3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3945C-6357-4AC6-86AC-F1998CEB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E0939-3A71-42E2-B32C-042EFAAF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B590A-A488-4EDA-A555-DB8ED730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3B90A-EFB4-465B-BC42-7ED70991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88670-A71C-47C6-AF54-66809DE0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4A92B-7988-469A-833C-B9B9F080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15E17-4B9D-4AC5-8A33-45D06719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D5D19-F2F5-4C50-A678-2EBC45A2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9FA1-9493-4B31-AB0E-4DB5F9BF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24C1A-8599-4E3B-A262-0A7E4D34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C3278-601D-4B6F-8D9D-9D0B18ED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DA57A-9AE7-45E3-8E5E-66DFC1BA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DBFE9-B095-47EC-AFF7-D26497A2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D8427-242B-4696-96B2-7C5B0037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2253C-4CAB-4E43-AF32-D9648E23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C5943-6655-4225-8389-9A0B3967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512A4-29FF-445F-B666-C8967530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2FFAC-CA27-48BE-B8A1-91B9096B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70DEA-517A-4614-828A-4E68A99E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CDB7-AB5F-485F-B13E-AD68965C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80884-95CD-41D8-9618-A43A0DD3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F7BC0-9BFA-4C8E-ABB6-835B679A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3AE08-99A6-4487-9046-85AA7A55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4360F-B9E5-4FF0-B99C-5D5516E5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C8323-2392-4CF2-843B-875823D5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A958A-9F92-4549-96BB-49BFBC7D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C56CE-C4E9-46E8-84BC-85403EF6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F9737-3197-40B5-9B13-C9457A19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DA6FF-44D6-4591-9AB1-FB6C6783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95D1E-E2EC-4833-809F-3F353319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E3EC-0433-47A2-AB9D-A2B1C6D8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88B4F-B3CE-4B91-BEE4-D25948BE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8F737-A401-4BB6-8567-A7144C08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35B05-4D81-42DF-B3B3-EC432054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20271-9989-4720-9C0D-23B3DF40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4F859-85AA-4FED-82CF-7C6CFF54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B80C9-BF39-4E04-8CB6-A9FA42B6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F9F54-B60A-44BC-8E03-AC959344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1617F-3DB5-4443-968F-A2CCEC04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AF8A9-D6AC-4231-82C7-27ED78E9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300EB-5604-4B5D-9074-04CEA1CB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B25E-9FB2-4429-9259-F55B5EE3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C8CC1-69B8-4C20-8493-7BAC4DF5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8A2E7-93F5-4B5E-9E3F-C6DC28E8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39FD0-5642-4F66-AA4D-E7460037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01CF5-4D1D-49D0-B93F-09E9EE32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7D982-46FE-43A1-A97C-580ABB96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DF8B5-CFB3-433B-A72F-3A3D6A4D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19153-2414-4F2D-ABEE-AC53D2DD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F5DB6-C8B4-4D00-9D51-0366B198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982C8-D327-4FB2-862C-CA71E372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862DF1-071E-47A8-9F3C-F6B75E94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6C2E-2535-4D27-898C-DB7F0104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9CB4E-7F41-4136-9373-847DC5B6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8C531-6A3F-4096-B264-C29006B8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2DD7D6-B65B-4BA1-8EB6-07D8DA36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88705-4044-483D-905F-A31F1B24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B1115-A292-4906-BCB3-C4E88B81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F9AAA-EA9F-4810-9122-5B4C33C7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F05B3-2EAD-4F75-BB4C-E2896F43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EA1AA-BF7D-43E5-8C6A-FB580FAB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7FB981-5E5B-4B71-A0D1-B6EE9286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CBD59-4FB4-494A-96FD-95CDAEEA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2691-F867-4E3F-AC55-06262D2F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194646-FD7C-468B-8913-EC05DB95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670B2-6083-4B3E-B986-7547A0B6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1A2D7F-55E4-46FF-9C2B-74A55B01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D16B0-1C4B-4A59-80BC-6442CBC4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14E03-AEB0-4C75-BBF9-5832352B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01D084-9A3F-4B50-AD6B-31AB2919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4AC87-AFC4-424A-BB7A-D077272B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E71B4-12E8-4332-B5DD-6EE7C9F1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6F7F9A-3FDD-43B0-A7B1-729B456E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E9ED1-3766-4075-8DB9-6B9CD3C0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9DD6-0D43-4A9A-BEE4-246397C3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3F1094-E0E2-4E52-802E-CC8ADCE8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1B8E2-3D5D-4501-AF03-9F94CDF5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27322-70BB-4900-B8C0-14547D70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086C39-CA4D-4685-99AB-A3FD152A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94D98E-9B3E-4B2F-A9E6-7FCBAD78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E8C15A-93C8-432F-A6FD-12076983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3FDA84-98EE-46CA-A6DC-88EB19FA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FD1386-A935-4733-B0C9-01BD2A89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42EFA-BC4F-4322-BDB7-672D92F9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F27E0-3014-4C86-AE05-991CA5FA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AA81-5051-4291-AE77-C4D57457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009EC-6217-4340-B9B6-CB739FEF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4A2861-0A69-4764-B2FB-00BDE844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367D9D-384B-4733-B608-AD6AAF3E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445C28-0E9E-4051-AFC8-E0ADA0F8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D5BB43-252E-4518-8EC5-2D846214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0A000A-77C8-47AF-9E78-B00DEDAF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2ACA62-2AEE-4824-8B56-62075019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225D9-7FC8-49AD-890B-4AF81F02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A05DA1-03F8-45EC-AF6F-CB78DC14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5153B4-C15A-4DD4-9EF2-D4F0B250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AA8-B95E-4631-97E8-4F31DF8F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62B1-664F-441F-9B96-B3F42FBA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F08CC9-9CF3-4AB2-8237-8F3335FF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AF6529-6870-44E6-942A-C200C14C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272344-A3BE-4ABB-B8A1-B834D224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FF005D-B5E7-4A3A-AE2A-561BBE8E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A136C-0DE0-45AC-8000-494398C8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B31B5-DE59-4DE6-AF82-2E290B8D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75D1DC-3447-43C4-ACBA-40887EE7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D52787-28FA-445A-818A-362B8743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D2770B-482C-4A4E-8A96-C34808DC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AA5167-5C3F-4DDB-8254-B99444A1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F68F-6FEA-46B4-91DA-FAEAF9D6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0D6515-89BF-4F88-97D8-25B6EF0E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D6867-F99D-4C8C-8122-D1BF40C0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31FAF-80D5-40FA-B1EF-15E2078B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F0E64-4DD1-43C4-8754-C60ED8D9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12C514-03EA-48E6-BFB3-2FB104CA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F697E8-F343-4FC1-BAAD-32B20660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849257-E7A9-4F4C-82F8-C5552E63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FE661D-EE83-43C2-B36C-2DFAE998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2B61DD-F70C-4D6C-89D8-47538B9B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2F69F4-BFE0-462B-A68B-EEA0DDD5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5BDC-79DF-4EC0-ACC6-DD05405E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8FBCA6-696B-4F9B-A03E-EF50F594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35400E-E286-4D9B-A7EC-6DA25E6D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A43F26-728A-4831-BAD2-FAC53199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DE00D2-E735-4947-8E0D-1BA2905F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0C06AF-7DF9-4332-92DD-6BF5B30B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DC1411-903F-4370-B33A-86142434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9DF1A9-4211-4E89-B2AE-66BFBDFE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29C3E0-24AF-4572-9A7B-024C71A8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313A58-E21A-4F60-9C16-C2C02307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811B5-6067-493F-9E55-ACF29AE6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27F8-061C-4E92-8484-CF796880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CDC9C3-BE9A-448B-AE3C-573B67D1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0FD5E1-6B46-4AF7-8BD5-DAF87BE5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49D096-80B8-4D5B-8926-9473CE11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55C7EC-41DB-4B68-B821-E20C6A96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A9E71F-8509-44F3-BD4D-53432C84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FCA615-08BB-46AB-8A1F-A40541E9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AAF41F-6984-4E6B-AADE-479ABEA0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017766-9B48-4786-B067-2AC99CC1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012EAB-FC63-4591-B1BF-9791513D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CCBDF2-47F1-4575-A3E6-86D97EDB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A007-1C65-4121-9C37-BD4E1D33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B24F8E-1EA1-4B5C-9725-1F89BC6A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508215-ED37-4A3B-9C1E-C4A9EEC4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9E67D5-C96D-4421-9D6B-F6F5C27A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009BD6-468A-47BF-ABA3-217282E9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6F1BB3-BE6A-49D0-A07D-C7BE0761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2789EF-E7D7-4578-B430-84D0C37B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FC56B5-C7AB-4777-87A7-A49A3C18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AF7034-6138-4DDF-B69B-6BEF14DD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D5CA5E-76C5-4AB7-9237-3A546F99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0EA263-0348-44D5-A136-951B3CA0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8B861-C19C-47FA-B556-48481E14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BEEEB5-4B2B-4849-8678-64EAA026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04EE9F-5132-46A3-8C0E-0221DC67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6E60BB-4603-4516-A4FE-91A1AD50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A95FF5-EDAA-4AC2-A88A-81F9E7A3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161BEE-0B0D-4249-B21B-8ABB21F7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313060-B835-445E-AADE-5288049D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1380F3-02C2-4254-8579-1EFBF486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B02A07-B542-4C45-A87A-AD29C328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69D301-C591-46B2-896F-4A98E7FD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A60FC6-F9EE-46A7-9BB8-33238DC2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B960D-C88A-49FF-94B3-42C0F994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26CB95-CE4E-4883-8F46-7286F31C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380224-9896-47E5-8924-262A0B94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5FDA02-A597-4D37-97EE-4A98B9FF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207BB7-6962-44FC-BECB-809304E3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589C41-86A3-4F3B-927A-28C5EB83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241BF6-2B0B-41AC-9046-07BCB012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24C730-F2EE-4838-83CA-8ADC997A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23BE3A-05B1-4724-9C80-B1C412E0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BA694B-91F0-4E6C-9955-702FDFF5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FD0C4C-C244-4940-85BB-AB48093A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A1097-A464-44C2-8E85-A550A81C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1BBB5D-F802-4D3D-90E6-F39CBFA5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1044FF-9D39-4896-81C4-6A6E2551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8284E1-FC30-4BEB-89F8-3DAFB857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F2C1C0-D638-456F-97FA-8E0E21A4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504DF6-0240-4A38-974D-93BC2C51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3245BC-15C8-421A-919F-A8438D05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7255CD-8C76-471A-8609-EA5E8053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B59370-4F5C-47EF-864C-6B7E11A1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1B2CE1-E77E-4B41-8674-C569C551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FE42D9-EEDF-4C68-AA2B-B752E093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3C1B-DA11-4419-90C5-E284098D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CA0883-796E-460B-AED0-70DE6841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D68200-9961-45F5-A90C-BFD339E9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3220DA-D01F-456F-AD2A-2BA31920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3FA377-688F-4F78-962C-B7A58918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71D779-CCDF-41D5-BC2B-F68F65EC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900174-8F70-48CC-A71E-8A170B28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6E6572-9C36-43C8-BE55-028A0AE6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5BF407-A648-4E47-B35A-807F7A77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5B6D20-56D1-4A1E-B824-55A7ED04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B3A111-1212-4A5B-9CE8-A241FA9C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D6ECC-05DD-4547-990D-A31458CB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A5226F-2E2E-48A1-BDC1-A584A9D2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735F31-7832-4EEE-9578-BBB2DD22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6FE319-E09D-4F99-97CE-7220D0D1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9CC4B9-1FB5-4B8C-B7EE-7E0CC74F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0E5830-933C-4BF0-973F-21353B9D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D65F15-AA02-48FB-AE1A-4F4A157E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2747DD-7EAF-4831-9F54-233782C0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A17FE6-5D6D-4A34-8971-6DD3F895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3E4AB5-5F44-4E2A-8DB1-38279081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491D48-46E4-4990-A68E-5CE94A53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C9A-6701-4779-80A9-F5C1C338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F550F-96DA-45CF-A422-E215AF77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49224E-B45C-4FF1-9807-952A1C93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589B2A-A211-4A63-BE0A-DD8E86F8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E49307-8EB7-48FA-9469-E9F5E94E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EEC43E-B954-45FA-BB46-FC91151D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9D097A-C793-41B3-A6E6-3BBC640D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858F29-8769-4339-9513-0A2F2935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8A3858-D151-48E9-85D1-5FAD36A2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BDE41B-9920-405D-BD61-949583D6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0C9F97-68BE-4219-BCD7-CA8EC4DF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989610-AE02-470A-B303-3D1B9527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D85D4-60EC-4EF3-A56F-07C2FCE7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457E5C-57F5-4011-B0E7-A274CD72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E1E59F-2A0D-45DE-84A7-FE2567E0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0E6715-5DF1-4074-8E97-318E4AE3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B4B34A-D609-4A2D-B7CC-74ABD1E3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891F94-C099-4DC0-AB3A-4BF30755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62C728-4A6B-446A-BBFD-D3771883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AB528E-2246-47BC-A0F8-A78A265C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CF78B5-3A18-4C39-984F-6CDC7325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F34799-31FE-40AC-B9D5-1E6CC726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F43F89-DA3C-46A0-9799-04B4C8EB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29C90-7B8E-4395-9AE9-18BAE877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976C42-F50F-493F-96DB-D1132904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BC2A8F-92E3-4115-B5C2-15831A40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E5EF89-A6D9-4913-A59D-2410F77A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53C2A5-A454-44C6-AC48-272BE512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5619C0-91F6-4931-BD96-B25B3728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D03253-6484-40C6-B50D-018ACC7C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6C70F0-7F06-4CC6-9EFB-88271440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F28871-90D4-4824-BEA2-54877317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78A51A-D5D5-47D7-A6F1-0361489E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4D75EE-D5BB-49F3-AC50-E0617DDD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047A-7135-4D52-9C72-D4F50F7F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721530-5D97-4903-BB30-A4E9C49C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1D60B0-FEFD-4F9B-923C-C345AAB9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E505A6-A7C3-4EDE-82EA-E41C58D9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0B75F3-5017-457E-84D2-5F877F68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CD9233-7157-4327-B38B-A8B396D7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DEFD82-27E9-4616-AE18-B9647AA0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BF49B4-9CD5-43D6-8348-5365A76D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481995-436E-4D61-8567-81955D21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4DC85F-3F9E-45BA-A4FB-433B19E9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F01D95-C134-4AD6-B1CF-66EBDEB9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98975-87AD-433B-990E-0B390BF2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3FEE0C-29EF-4EA8-A932-B3B6F557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D619FF-576F-4F4C-A7B9-5335A43C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445D15-A19F-44B6-A006-2F0D69EE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F78490-E2DD-40A2-80D4-E9C01889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A0AF84-5A9F-47E8-BFE5-5976E645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23224A-31AB-4E2A-8400-7B1020A6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F82294-D45A-4AA5-B98E-6DF51DB6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47C81F-D2E4-4338-BD5D-40323316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591705-751E-47AD-8CD4-5FBF675D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0A7B83-A325-48E4-B564-C520F26B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6274A-3FE7-4E85-9BD0-6BB5AA11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6FAD97-C5F3-4927-83A6-46057F12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110AC8-89DF-4146-86C0-C326A8AD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9FF243-970B-4023-89D7-CC606718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CAF564-DDD6-4DBB-B1EB-31EE7F38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17B32A-6CA3-44F2-9F87-1002FB98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39E60E-A1C4-4E1F-8EEB-9F6BE76C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0CC310-2707-4717-B95C-44B47264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B41DAD-40CF-4FCF-87E8-5E031C06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F0EA1C-C640-417F-8212-F7E3F81A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A9418F-90F9-4788-904E-1E2154DB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E8F3-515D-4690-AE75-6881F452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96908E-1ACB-427A-8BCC-37BF61EB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30A856-5C16-4997-915A-77CE280E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511195-7E1F-4C0D-B9BD-16A20CF8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7904A6-9820-490E-98EC-5075E33B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11A553-1006-4464-9EE7-73D53296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043125-019F-4CC5-92D5-EF268AD7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5A78F1-70FF-4B4F-BA98-138547B8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44EB63-9F2B-419B-BE7A-D3B7F831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D5548E-1718-4A04-8B8C-5F26621B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486EC1-8FE0-47FA-AEAA-68593860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8B487-168E-407B-A190-8F14F022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613DB1-E17E-48F3-9D8B-32C49325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7045A7-5C54-424B-A85F-A87ADE61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533886-A8E2-4DA9-8981-D24D780A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D17C30-A263-4597-B673-E3678BFC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FAFCF0-9704-49EE-ACA0-C5FF7560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81D1CA-2416-4953-BEDC-A72C6BAC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8DAD94-ACB9-48C3-9AA9-BCEFD429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75597E-D1FF-4B93-8B02-35D5CFBD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CD7552-1610-422E-BE6D-75B7B6C9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7D8F32-6C9A-4DE3-88CA-7BE97006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DDB98-2DF7-4BBC-82D9-863CE49E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1BCF2E-E393-4D08-BCC2-5235EEED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178706-7AB7-493B-9070-D772E54B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E62A25-66A7-443A-A5AC-EF5261E6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6AD4DF-7649-4DEE-80D4-734BF739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55590F-B1C1-4820-A670-1F008730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03C774-7581-4F8D-AA4F-D20D5049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AC8500-793E-48F9-896E-3AFC2675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3F289C1-33D5-4126-AC52-F7D42E29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9D1968-4F71-47D9-8B44-06E7E052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14B5E22-EC51-4A6E-ABF5-0B30FDA4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23098-7AE9-43C0-BE69-5D26FAD1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FE81C9-0BF4-4965-9F03-67F60EFC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7F7C3B-9747-4871-8B88-A7CB28E7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8E7694-8F3D-47D6-98B4-521A0654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278014-5F3E-43B1-A3CC-8D409082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9CA2C7-6A74-4F47-88F8-94E4CF2C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B9DD1E-49F4-4F5C-A06D-4B06D27B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53C12D-A243-498E-A821-86CFF677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D373C2-EE1D-4A31-B5B5-79B69C05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A79179-698F-40FC-BED5-B013C21E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96B1F3-B077-405F-9782-2D8A998B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20A-D7D7-44F3-AAF1-D3123AAD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E91BA-D07B-4C96-B267-2AFAA618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65F52A-A258-4090-8775-11F64C23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C196D0-0E2E-4797-86A7-0B0FFB4D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B24887-3313-49E2-9CA5-475E4766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C5FB2E-E88A-4B10-A341-3AF926FF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72E7C8-76B0-44CC-B0BC-EB485CEB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4BBDA8-E0F2-4C93-A14F-80BBD89E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F0D2AD-604E-4026-A393-CC9CF956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49A7A1-C2D2-4D34-A9F1-E2E69740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A43958-D241-4642-9992-DD57B4CB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B2DBB6-E2DA-4C32-981E-F29A3007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F202A-88EF-41C3-A9A1-0F93BA70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E87F89-70B2-4CA5-AEB1-6B17287F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76F2D6-EEF6-4FA2-8F6D-B41131E2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1D1FBA-869E-4331-B496-7077CA95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9C27DD-3D17-4FEA-BEE6-21986F53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C3E229-FA4F-436B-8431-A198DC15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15B61E-2BF3-45F1-A693-2F773C45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306095-855C-4EA8-A9F0-064B1A8F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8AAA6A-49F9-4B07-B6F3-82E8191D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57C0DF-76CD-40EE-B751-DC35EDC1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1DDE23-D6E5-40C4-B9CA-39B313D8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53BCA-93A5-4356-BA98-FC83184E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99B494-35B2-48D9-AC8A-6300FD2D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7E3F31-333F-4E3C-9CED-1C9F8BBF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6BDC3F7-EB9F-4228-A813-61DB8B88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7552E7-E4C7-4B01-842A-FA14AF55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F22D5F-E286-42A3-9518-03BC46AD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85EE38-4D69-47D7-805F-C9132DBE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58025C-8B14-49CE-94CB-49381122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B856BE-7B6F-49A2-A366-0386B6EE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408D7D-C6D3-4AFD-89C3-49E873F3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5A639F-6A1D-4F23-88BB-58162591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73C80-B950-4F0F-A9DA-171F9DAB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850452-D4D3-4230-BA32-87F05332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D950F4-3507-4CEE-A110-77E3444D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75ECA5-FA39-4DC7-A65C-8CD577AF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1D19EB-9FDA-4A2E-81D4-10544982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B4F733-6CD9-479A-9CDE-FD1A42A5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C595F1-CEC3-4B81-ACB7-1687F3AD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60C37B-7FC7-4DE2-BFF8-AAF7A75A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1E9D34-777A-456E-B74C-E04C9D8A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F12886-2179-4417-806A-BF1F72A6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F89E8B2-2F0F-4C7C-96EB-8DBA7614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854C4-F61B-4027-9D93-BB0443DE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6BCF12-2587-4A43-9013-03F7CDB4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1F018A-04AB-4316-BF37-3F6563C7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91DB2D5-5306-41C7-81BA-09318B2C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3B8F1C-A5DA-40F4-ABDF-8ABE8F28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140570-9F60-4D1F-A7D9-F7C657EE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8BC0758-5100-462B-9B32-703ADF3D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81AD391-5C57-435B-8EAD-C5125229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EF88075-E019-466D-80C2-FF6CAF6D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DA9DA3F-264E-4FBE-9FF1-33152287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065F8D-9E9B-4EE7-9503-7F546ED9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3A0D3-83C3-4230-B2AE-25C0DBC5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3FE110-373B-406B-A4CD-6507D59D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5D4665A-5711-4505-9B34-9C7FEABF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40F3080-D0E1-478B-9CAD-0123F51A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2F35000-C8B0-4DB1-9D08-B210D998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7E62776-7E80-4DC8-8037-CD7F90BA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AAD0BA-DA3B-4DE7-A6D3-06E9BC8E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5EB176-FC53-40D1-A5C6-A61B73FD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6DA1C19-F17D-4F85-9C50-6B7F06EE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391CBEE-420E-450D-8305-37C298E2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0B64CA-92DA-4499-BADB-CA5E7B0A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CD3C8-F8FF-4D5E-8605-D51ED38A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1F58A0-8D5E-4592-8BD4-6A5287CC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8740B2-A123-4B7A-A9A8-D7A38CE6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7DF1AB9-8654-429C-824B-7F1EE815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99A80B-5F15-45B1-9A00-FEA37E53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7F163A4-706E-4B04-B402-68940AAB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2D84F7D-4C8D-4793-BB2C-4608CA0B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9C6C06-C052-45A8-8DF3-65AD379F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F58671C-0BF6-481B-9757-5BF36911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21BE157-FE11-4BBA-A7D7-C026ED52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5BC319C-9779-4A58-9A64-DE34E122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DAFC1-CB30-4752-8A8F-3E2FB465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CE296BB-43EC-4395-A920-C767D192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97D2E2C-30BB-4856-95F6-FD809515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B09DF73-F581-4DCC-9FF2-54345CCD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683813A-A535-43D7-8D43-6C2F6C52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0DD7DF-E747-47AF-8BAA-7B540C91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6CC37EF-13AF-449C-923F-69A0454D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0B71348-51B9-4AA4-9748-F101129E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6928573-EFCB-424E-833E-18C11F02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422A4CF-FFD5-484F-975A-CDAA4888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D2F0521-052A-4F93-B79D-7CC06A8B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2B840-F5BC-4BA5-BB27-E7E27BF6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DA05733-BC6B-47AF-9714-A67496AA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FFF9D7-B435-4FB2-805B-11E65E40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F2B53B-E941-4539-91D8-4F932F65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36BC54C-2831-4BE5-9689-8857BB2F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DF0FD64-57B2-4441-A55E-61B3F6A7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C4B3B14-9A0C-45F3-AA97-823C0A44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132CF99-3300-4FD4-B782-3AFF7D2E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6E34DA-B2F3-4A95-B09A-B0EDA22C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A1113C2-4937-4D6F-9132-83F71138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D76E367-6241-44EB-A370-056E254F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6D1B5-6272-42F3-B161-6E6A1D38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D4BEC07-6748-4305-87D5-D30D6CE7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89CFAB7-5EF4-48FC-9B76-DD723724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C8925F-E97F-4BCF-8038-F2145996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EBDC97D-95C5-4C28-A1E1-C8302053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C2A02CF-A2B7-4F49-9D0F-5A7F6149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9C0E931-FF8B-4D99-9754-8DAA8CE6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D4A35D1-40BA-4A60-A914-C09A8DF1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064FA87-20DA-426C-933E-BD0A13C2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D03E94-A91B-4EB0-A334-9DC5DE17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CA03CC5-1D5C-4BAD-AB04-1E0654B1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748-9B1A-41A6-8189-C71F8FF3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563C7-367D-4CC9-B887-6302126A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A175495-DA1E-415D-91CB-1F0C0044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FEB0FD-ECDC-48A3-B1EC-FF77E40D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1D70B50-3713-4671-B8BA-C2CB88DF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F784367-C904-48B6-BAB7-8202EE73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C34370C-1213-4C8D-A31B-777454F1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1A1F619-55A0-4B4F-A2E4-E2D6593C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241E51F-30E9-41FE-B657-5A7DEED0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91DF0F9-F9A0-44EC-A24F-A689DF7F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CAF3598-3BB2-4B60-9083-A1D945F1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6472DA-0EE9-4D2D-B815-8968F95C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BC202-EAE7-4983-8AF1-AEDF49CE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BD9FEE6-BAEB-4CCB-B8F9-C2927394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C9F290E-D976-4B88-AACE-84B0B23C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C398DE0-85B0-4F60-9424-A3FF7AEC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DBBF59B-D769-497B-97B9-126B51C9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EE7A6E5-ACBB-4064-9FE8-0629135E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C051D8C-EE29-4F8F-8CDD-0635984F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1C5CF57-BCBC-479C-A58C-736ED276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2397FA7-1091-4B2C-86ED-114BB942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FE39BF1-F052-4FD8-AC36-DF4C2DAC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95C7FFB-5485-4703-BC68-23B940F5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F8E78-2942-492C-9F35-BF7C3E4A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C55035C-EC65-44F4-9815-D95B445F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1051569-0F8B-477F-9364-BE4D8A8B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C17A87F-A42F-4F08-822B-9263BC55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F292141-6A88-464A-97E3-235B1DCE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42C348A-5F23-47D0-94A8-E110E4A5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54DD8A9-BD64-4933-8E76-63EEFE98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DE5C0C4-2638-4D21-92F6-E8939389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0689D07-CBD5-454A-9A63-808FF830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80DB344-325D-4787-ABAE-EB32908D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737205D-EE39-4B2E-974F-213865EF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7F6F2-5D8F-447C-B17D-9D86E7D3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12122D4-FF43-4BF6-8376-51571DB0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3432B58-48AF-42D8-94A2-65A16588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950BA9B-FB83-4AA1-B47A-EDC1E784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0A41BE3-9520-4E17-B6CC-10D2F136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3C3E11A-173B-4ABD-ACA9-58B883F3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4FF3B21-DA92-4894-9E74-8AB68EA0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EB839DD-BD62-4A60-83B1-22A3B392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69E12CC-99EC-4F63-B699-40396BAE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0946203-AF7A-47AA-8B2C-8A924FA9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84744E8-327F-47A6-B2F0-313DB9C0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064A5-D47F-4386-AC8A-D433DE2E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BEC67FF-D969-4865-9D2D-AB805418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B0BFC-022E-466D-B394-676016AB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F8489-0121-4443-9684-0BCA996E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CAD8B-5067-4F23-82A1-3877098F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0A969-BB0D-4D79-AD62-933C42D4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1AA0C-6CE6-4A5B-AE37-55D8C315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79E-5A1D-4C56-9CD3-ABBB92CD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79012-6239-4B51-BFBF-CFD0D6F2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0A2E3-4545-4ACF-8DA3-265C50E5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D8CDE-101A-4757-9553-7C2210F3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4389E-8094-4241-8B9E-628D33F2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BD66E-0FC3-404B-B796-7C113F1F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6077C-12FF-4771-AF2E-300B0196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83E11-5E5C-4396-9346-80E549E3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41ED0-6709-4F26-A9C3-76822759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B3D59-7B03-4BF2-B713-79EA77FD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A091F-9197-48B8-8DBE-704A61A5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EC6-9C9B-4189-8CC5-1A12FB09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93257-E86D-4C71-9877-653275CA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A2059-2D52-44AD-A274-2F5C430E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A493F-F73D-4013-8064-3E5EC0B4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58908-5980-4D6E-AFB0-81C89DCE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03C8F-95EE-4E66-8762-27F432AE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FA1E5-6837-4C0C-A1B5-A0AF2A2A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678B8-1595-4A55-84F0-F8AF9BFE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78BE9-3BAF-4CED-BEEA-BF4424A9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FA593-8B76-4EFA-B596-24A9FF69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0FC7F-DC77-4D9B-9C93-C433073A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A8A-5655-4F40-AB2B-837179C7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68418-C186-4AFA-A7CA-9C341B86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9D363-AE33-4872-910C-97E51EEA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0C502-BA9A-42AA-B14F-6156ECE6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FEBA4-2902-463C-9940-E83180CC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1DEE6-38FE-4A0A-B9F7-9C857FDA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603BC-F564-435A-B5F0-90ACD177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A0CD7-539D-48FA-9D5B-E1F0D818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2091E-B25A-4A01-BEB0-0364C35A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C70EF-B521-40BA-BD9A-68D0256C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C6BEB-8B7E-48CC-8B4C-A62EF9A3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3F2-64A2-4EEA-B8F6-4C774EA8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9022B-0EEB-41AE-8245-44C52703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B4DB0-2495-41DC-9839-1F388C56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7A778-5F3D-4076-84A9-0F0605AE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A7B53-7D1B-4113-8AF7-18DE6EAA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47AF2-04D2-4556-B911-2EABAD40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17050-D405-437E-A0D6-2E31DEF3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7A06B-33B9-48B1-8586-D7B4855E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7F8A4-2161-4773-A9A7-925EB483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B2115-6F74-4D80-80C9-A6063B30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BBEA6-73CD-4E67-96B1-E0815886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6DC5-6F8A-497D-9279-7248CC17C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640A-2164-4423-B90F-B3A04E16D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E93A-3C20-44D0-90CD-B24B24207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EB5E-BCBC-4B7D-AD8C-87311810C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radley Hand ITC"/>
              </a:rPr>
              <a:t>Click to edit the title text format</a:t>
            </a:r>
            <a:endParaRPr b="1" lang="en-US" sz="4400" spc="-1" strike="noStrike">
              <a:solidFill>
                <a:srgbClr val="1c1c1c"/>
              </a:solidFill>
              <a:latin typeface="Bradley Hand IT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BA6B-464D-4972-A0F6-B4F131887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34DD-7462-45A3-814F-9923744AF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0F66-51DD-436D-9EC8-991C9E645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1941-AA55-47DB-88C3-D4A7D7A41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3995-1D47-40E9-A45F-2C439E3FB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D35D-9DBF-4DF0-92A1-879CB180F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63F0-C590-47CF-A98E-5DC0525D6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B3DB-CA3B-451E-BB7F-EDCE2FB6A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EB6E-D59A-492A-90E0-9800F9897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022A-4B42-4170-AD47-56EFF7744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226B-40EA-4537-9A1A-73F8B8C5C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F8B8-391A-4B8E-94E8-5235FE786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F59A-C689-4370-B1F3-8592CDC36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B9B2-7C5A-457D-A723-8583E031D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17BF-1B2F-40D2-9A61-A5F66E548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6FC9-7896-48D9-BA71-59FCAB684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E323-3976-4556-9580-60DBBB8C0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870C-34C4-4137-9822-4B4048E7B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FDCB-B12D-4CAF-B04D-8C757516C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9C82-C064-4246-8B03-3E6FF0962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B074-7D18-4AA9-93E9-865A32F87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79AE-AFF3-4EE3-8F81-6BB93C5CF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A95F-B9C6-4A8F-818D-2C95CA234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628A-658A-4B8C-A211-DDE5FDA2E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D7D5-DD5E-4851-A0CB-B11BA5328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9EB2-2300-4853-8E4A-B2DDDAD18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B75E-D55F-4F9F-A8C9-54ACF0FED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D83B-72ED-4E31-8EAA-01B223DF0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Bradley Hand ITC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19DE-6FCE-4DCB-830C-8B26718F4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5CF2-66DF-403C-9497-60C5C8E9D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C86D-DD28-4DAC-AD32-D44B0046C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2449-6196-4F41-9E21-F0A79EDF5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B86E-A19D-4CB6-A7E3-E013E99BB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Big Ruckus AOE"/>
              </a:rPr>
              <a:t>Click to edit the title text format</a:t>
            </a: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CCB1-67AC-4BBA-B561-25BD3FA39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8363-B166-4F2C-AE59-F956505E4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A43C-5AE4-4F59-9705-7861576C3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F8A4-E2B3-4330-A0A5-6B2C9405D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8019-2E37-44FF-A288-8EF7B5E65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5F51-138C-47A4-98B5-24C6DF555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EC8E-7425-4D55-B4D1-D750E4F5A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6BDD-F0AF-4E23-9C43-2644A7863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0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0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0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0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0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0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c1c1c"/>
                </a:solidFill>
                <a:latin typeface="Big Ruckus AOE"/>
              </a:rPr>
              <a:t>Chapter 13</a:t>
            </a:r>
            <a:endParaRPr b="0" lang="en-US" sz="8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9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Big Ruckus AOE"/>
              </a:rPr>
              <a:t>Name and give examples for the reasons for lying</a:t>
            </a:r>
            <a:r>
              <a:rPr b="0" lang="en-US" sz="5400" spc="-1" strike="noStrike">
                <a:solidFill>
                  <a:srgbClr val="1c1c1c"/>
                </a:solidFill>
                <a:latin typeface="Big Ruckus AOE"/>
              </a:rPr>
              <a:t> </a:t>
            </a:r>
            <a:endParaRPr b="0" lang="en-US" sz="54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 to benefit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 to affil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 to avoid invasion of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 to avoid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 to appear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 to protect 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 to benefit 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 to harm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Big Ruckus AOE"/>
              </a:rPr>
              <a:t>What is the four-Factor Model?</a:t>
            </a: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the model, the four factors that influence behavior when lying are: arousal, attempted control, felt emotions, and cognitive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Big Ruckus AOE"/>
              </a:rPr>
              <a:t>How do liars behave?</a:t>
            </a: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ch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pil d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leva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s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descrep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al segmentation and body se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Big Ruckus AOE"/>
              </a:rPr>
              <a:t>Explain interpersonal deception theory.</a:t>
            </a:r>
            <a:endParaRPr b="0" lang="en-US" sz="54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ing happens in a dynamic interaction where liar and listener dance around one another, changing their thoughts in response to each other’s moves. Liar behavior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ipulating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 distance themselves from the message, so if the message is found to be false, they can extricate themselves. Thus they use vague generalities and talk about other peo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ategically control 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 suppress signals that might indicate that they are lying. For example their face may be more impassive and body more rig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age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example by smiling and nodding mo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Big Ruckus AOE"/>
              </a:rPr>
              <a:t>What is the Machiavellian personality?</a:t>
            </a: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chiavellian personality is not interested in interpersonal relationships, manipulates others for selfish goals, and has no sense of social moral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Machs constitute a distinct type: charming, confident and glib, but also arrogant, calculating and cynical, prone to manipulate and exploit. (i.e., Rupert Murdoch, many politici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low Machs, however, can be kind of dependent, submissive and socially inep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6:23:29Z</dcterms:created>
  <dc:creator>nuhs</dc:creator>
  <dc:description/>
  <dc:language>en-US</dc:language>
  <cp:lastModifiedBy>nuhs</cp:lastModifiedBy>
  <dcterms:modified xsi:type="dcterms:W3CDTF">2007-11-19T18:00:43Z</dcterms:modified>
  <cp:revision>4</cp:revision>
  <dc:subject/>
  <dc:title>Chapter 13</dc:title>
</cp:coreProperties>
</file>